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6FC-4B2D-4A95-8FD4-1C0D7295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097-8A70-4090-A434-84C516BA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6B3-378B-4519-AA06-363F6FE0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1AE-2628-4A80-A8BB-F359CAB2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C4D-636B-4C45-A902-9BFBFA54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4A9-C47C-48B4-ACAC-9B2ED850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AB9-0F4E-4F08-9132-6AA5A239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0A9-EC29-42D8-B9C4-5123F256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9DC-1F58-4D00-96EB-60A7C49D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EBD-825B-44FB-B774-B243735F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043-01FA-46D1-8DA3-9A558F3D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339E-3090-4D35-ABDD-7E3076D1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ADA4-EE47-44A8-A565-1C42DC5484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" Target="slide22.xml"/><Relationship Id="rId4" Type="http://schemas.openxmlformats.org/officeDocument/2006/relationships/hyperlink" Target="file:///&#30446;&#24405;.ppt" TargetMode="External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多线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981080"/>
            <a:ext cx="66294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创建线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实现线程间通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利用线程同步技术保障数据安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W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的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GetSafeHwnd(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返回窗口句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AfxBeginThread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程函数 （ 返回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UI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ainFrame::GetActiveView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::Sleep(100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线程间通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全局变量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间通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消息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间通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间通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9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全局变量实现线程间通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上一节程序的基础上，进行以下操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“线程”菜单中添加菜单项： “终止线程”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THREAD_STO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中添加一个全局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Controll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来控制线程是否继续。添加方法是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上面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nd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面添加下面的语句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olatile int threadControll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视类中为“停止线程”添加消息处理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ThreadSto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495680"/>
            <a:ext cx="4267080" cy="15418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ThreadTestView::OnThreadStop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threadController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全局变量实现线程间通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修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Thread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函数，代码如下所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752480"/>
            <a:ext cx="800100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View::OnStartthrea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threadController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TreadProc, hWnd, THREAD_PRIORITY_NORM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37600" y="4724280"/>
            <a:ext cx="490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Pr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的代码，代码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80880"/>
            <a:ext cx="861048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T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启动了一个线程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while(threadControl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Sleep(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iTime 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iTime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结束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消息实现线程间通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View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定义消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const WM_THREAD_SENDMESS = WM_USER + 2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View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添加消息函数声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fx_msg int  OnThreadSendmes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添加消息映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_MESSAGE(WM_THREAD_SENDMESS, OnThreadSendm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ThreadSendmes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码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95680"/>
            <a:ext cx="68580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CThreadTestView::OnThreadSendmes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iTime 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消息实现线程间通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修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ThreadPro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）函数如下 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143000"/>
            <a:ext cx="853452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T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启动了一个线程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threadControll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Sleep(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::PostMessage((HWND)param, WM_THREAD_SENDMESS,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iTime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结束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PostMessage((HWND)param, WM_THREAD_SENDMESS, 0, 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实现线程间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：有两种状态：通信状态和非通信状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创建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的对象很：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CEvent threadStart</a:t>
            </a:r>
            <a:r>
              <a:rPr b="0" lang="zh-CN" sz="2000" spc="-1" strike="noStrike">
                <a:solidFill>
                  <a:srgbClr val="00ff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他自动的处在未通信状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threadStart.SetEvent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其处于通信状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WaitForSingleObject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监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::WaitForSingleObject(threadStart.m_hObject, INFINI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实现线程间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上一节程序的基础上，进行以下操作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：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#include "afxmt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加上下列两个全局变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CEvent threadStar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CEvent thread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adPr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Thread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函数中的内容。</a:t>
            </a:r>
            <a:r>
              <a:rPr b="0" lang="zh-CN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ThreadStop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函数中的内容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hread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M_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消息处理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267080"/>
            <a:ext cx="396216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eadStar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eadStart.SetEvent(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4267080"/>
            <a:ext cx="403884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eadStop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eadEnd.SetEv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创建线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调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xBeginThrea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）来启动线程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9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实现线程间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76320"/>
            <a:ext cx="8763120" cy="7375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T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::WaitForSingleObject(threadStart.m_hObject, INFINIT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启动了一个线程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BOOL keepRunning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while (keepRun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Sleep(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result = ::WaitForSingleObject(threadEnd.m_hObject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f (result == WAIT_OBJECT_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keepRunning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PostMessage((HWND)param, WM_THREAD_SENDMESS,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iTime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结束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Eve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实现线程间通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292400"/>
            <a:ext cx="8763120" cy="330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CThreadTestView::OnCreate(LPCREATESTRUCT lpCreateStruc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CView::OnCreate(lpCreateStruct) ==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specialized crea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BeginThread(TreadProc, hWnd, THREAD_PRIORITY_NORM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线程同步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ritical Secti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同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互斥对象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ute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同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信号量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maphor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同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9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CCriticalSection   criticalSectio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criticalSection.Lock();  /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访问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riticalSection.Unlock();  /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访问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线程安全类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68580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afxmt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Int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riticalSection criticalSec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~CIntArray(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SetArray(int 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GetArray(int dstArray[1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线程安全类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600200"/>
            <a:ext cx="381024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stdafx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IntArray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~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523880"/>
            <a:ext cx="457200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SetArray(int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iticalSection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rray[x] = 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iticalSection.Un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GetArray(int dstArray[1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iticalSection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stArray[x] = array[x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iticalSection.Un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使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Int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例子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905120"/>
            <a:ext cx="85345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应用向导创建一个单文档应用程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t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的头文件和实现文件中添加到项目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编辑菜单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程”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_THREAD_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启动线程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视类中添加该菜单项的响应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ThreadSta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066680"/>
            <a:ext cx="853452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readTestView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，加入下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MainFrm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afxmt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IntArray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IntArray intArr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nt       iArray1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nt intSet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添加下面两个全程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UINT WriteThreadProc(LPVOID pa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UINT ReadThreadProc(LPVOID par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Draw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添加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760" y="920880"/>
            <a:ext cx="867096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WriteTh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nt i=1; i&lt;=10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Array.SetArray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SetNumber =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:Sleep(2000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760" y="920880"/>
            <a:ext cx="867096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ReadTh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Array.GetArray(iArray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ThreadTes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菜单响应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写线程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视中输出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760" y="920880"/>
            <a:ext cx="867096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View::OnStartthrea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WriteThreadProc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3.1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使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ritical Se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066680"/>
            <a:ext cx="838188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str[7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为数组设置的值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ntSet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3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1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5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3.2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使用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utex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（互斥对象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上例中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itical sectio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替换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te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676520"/>
            <a:ext cx="784872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afxmt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Int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Mutex mute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~ CIntArray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SetArray(int 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GetArray(int dstArray[1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3.2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使用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utex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（互斥对象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954000"/>
            <a:ext cx="365760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stdafx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CIntArray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~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920880"/>
            <a:ext cx="464796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SetArray(int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ingleLock single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singleLock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rray[x] = 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GetArray(int dstArray[1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ingleLock single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singleLock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stArray[x] = array[x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.3.3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使用信号量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maphore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创建信号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CSemaphore Semaphore(2, 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创建一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ingleLo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CSingleLock singleLock(semaphor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减小信号量计数器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singleLock.Lock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增加信号量计数器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singleLock.Unlock 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t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676520"/>
            <a:ext cx="670536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afxmt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Int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array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utex mute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emaphore *semapho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~ CIntArray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SetArray(int 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GetArray(int dstArray[1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修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t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1611360"/>
            <a:ext cx="403884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maphore = new CSemaphore(2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::~CIntArray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lete semapho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1143000"/>
            <a:ext cx="449568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SetArray(int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ingleLock singleLock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ingleLock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rray[x] = val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IntArray::GetArray(int dstArray[1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ingleLock singleLock(semaphor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ingleLock.Loc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x=0; x&lt;10; ++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stArray[x] = array[x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leep(2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修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threadTestView.cp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件的开始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828800"/>
            <a:ext cx="403848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MainFrm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afxmt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"IntArray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tArray intArr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1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2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3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4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5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6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      iArray7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intSetNumber;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改写视类中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nThreadSta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828800"/>
            <a:ext cx="64008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eadStar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WriteThreadProc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1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2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3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4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5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6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ReadThreadProc7, hW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添加另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线程函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676520"/>
            <a:ext cx="845820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ReadThreadProc2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Array.GetArray(iArray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MenuTes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Thread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单文档界面应用程序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ingle docume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762120"/>
            <a:ext cx="845820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INT ReadThreadProc3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Array.GetArray(iArray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改写视类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OnDra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信号量的一个例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0"/>
            <a:ext cx="8458200" cy="247863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str[7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写线程为数组设置的值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ntSet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3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nt 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1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5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2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7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3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9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4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11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5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13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6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15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str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线程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到的值是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 (i=0; i&lt;10; ++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en = strlen(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printf(&amp;str[len], "%d ", iArray7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30,170,s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772400" y="617220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9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编辑资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菜单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线程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p-up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                      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线程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THREAD_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他任务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TREEAD_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4800600"/>
          <a:ext cx="273384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800600"/>
                    <a:ext cx="27338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3680" y="419112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D_DIALOG_THRA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0200" y="48006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DlgTh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添加菜单响应函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Objects ID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hreadTestView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THREAD_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hreadTestView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TREEAD_OTHER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432160"/>
            <a:ext cx="762012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eadStar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WND hWnd = GetSafeH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BeginThread(TreadProc, hWnd, THREAD_PRIORITY_NORMA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419720"/>
            <a:ext cx="701064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ThreadTestView::OnThraedOther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Thread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写线程函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视类中添加两个成员变量。并在构造函数中初始化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057400"/>
            <a:ext cx="411480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lass CThreadTestView : public C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String m_strMess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    m_iTi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057400"/>
            <a:ext cx="426708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ThreadTestView::CThreadTest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Message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没有线程启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iTime = 0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视中输出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143000"/>
            <a:ext cx="838188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ThreadTe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ThreadTest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har chNumber[6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toa(m_iTime, chNumber, 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DC-&gt;TextOut(30,30, m_strMess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DC-&gt;TextOut(30,50,ch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线程函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80880"/>
            <a:ext cx="891540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UINT TreadProc(LPVOID par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ThreadTestApp *pApp=(CThreadTestApp *) AfxGetAp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MainFrame *pMainFrame = (CMainFrame *)pApp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ThreadTestView *pView = (CThreadTestView *) pMainFrame-&gt;GetActive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启动了一个线程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while(pView-&gt;m_iTime &lt; 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::Sleep(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m_iTime 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m_iTime 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View-&gt;m_strMessage = "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线程结束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18:26Z</dcterms:modified>
  <cp:revision>125</cp:revision>
  <dc:subject/>
  <dc:title>第四章   菜单、快捷键和控制条 </dc:title>
</cp:coreProperties>
</file>